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16FB-498E-460D-B1B6-FDAAD545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416D-F670-41FA-AA80-08F6E996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BAB3-D863-4F0C-B16E-B9E19EDA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6EBD-3FB6-42B3-B69A-22A5A41B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07D5-C96F-4088-9A8C-A1AF97F5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543A-F13A-466A-9C0D-F2E907DE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1214-7EAC-479E-B776-E526BB5A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065C-7C42-4B97-86B2-D0ADC610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A8C-B3E0-4DDE-BE57-F1EC8DBB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0692-3252-42A8-B145-83318800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18F-F8DC-44CC-8D7F-2978338B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22D-5901-4151-BB46-40AFA940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5863-2C65-4D71-BBD2-DB16BB706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4360" y="836640"/>
            <a:ext cx="7848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paration of the B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ednesday 22</a:t>
            </a:r>
            <a:r>
              <a:rPr b="1" lang="en-GB" sz="3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September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836640"/>
            <a:ext cx="7848360" cy="62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sson ai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principles of training and training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836640"/>
            <a:ext cx="7848360" cy="64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sson St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me two methods of gathering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me two methods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me three types of f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4360" y="836640"/>
            <a:ext cx="784836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rogramm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rder to improve fitness you must train over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-longed period of ti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plan our training we MUST take into account three principles.  What are the three principles of trai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8360" y="54936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836640"/>
            <a:ext cx="7848720" cy="56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pecif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2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should we ensure training i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fic 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 three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4360" y="836640"/>
            <a:ext cx="78483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raining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ould you make sure you stayed within the training z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would you expect to see over a period of time if you trained regular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Goalkeeping drills to keep you on your toes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765000"/>
            <a:ext cx="7848360" cy="52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gressive Over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 3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the course notes to gain definitions of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836640"/>
            <a:ext cx="78483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raining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ould you make sure you stayed within the training z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would you expect to see over a period of time if you trained regular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Goalkeeping drills to keep you on your toes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765000"/>
            <a:ext cx="7848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er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an we ensure the effects of our training are maintai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4360" y="836640"/>
            <a:ext cx="78483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raining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ould you make sure you stayed within the training z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would you expect to see over a period of time if you trained regular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Goalkeeping drills to keep you on your toes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765000"/>
            <a:ext cx="784836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gramme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must now use our knowledge of the principles of training and the factors which affect performance to design a training program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te the training programme worksh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have 15m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Goalkeeping drills to keep you on your toes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4360" y="836640"/>
            <a:ext cx="78483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raining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ould you make sure you stayed within the training z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would you expect to see over a period of time if you trained regular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Goalkeeping drills to keep you on your toes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765000"/>
            <a:ext cx="7848360" cy="65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omework: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ue Wednesday 29</a:t>
            </a:r>
            <a:r>
              <a:rPr b="1" lang="en-GB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nswer the following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be the principles of training you used to plan your training programme to improve your chosen aspect of fitnes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be your training programme for your chosen aspect of fit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0:48:31Z</dcterms:created>
  <dc:creator>hamiltonp</dc:creator>
  <dc:description/>
  <dc:language>en-US</dc:language>
  <cp:lastModifiedBy>hamiltonp</cp:lastModifiedBy>
  <dcterms:modified xsi:type="dcterms:W3CDTF">2010-09-21T08:24:36Z</dcterms:modified>
  <cp:revision>20</cp:revision>
  <dc:subject/>
  <dc:title>Slide 1</dc:title>
</cp:coreProperties>
</file>